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FEF-4050-494D-9750-6DB8DB6C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D6F-5570-442D-B537-F81EB4C2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1A508-F36C-465A-97E8-C0ADA55F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B84BD-F705-4550-A95C-2D08BF76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0CCA5-E374-46BC-AB05-148E605B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A043B-D9E8-4DB0-92AA-1EB1555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D7BC5-27BE-4D35-B59F-769654EF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D52E7-94E4-4CB2-B4CE-3C07F13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41562-F714-4659-A014-9BFE4036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751A3-EF64-4DF3-B479-B9B864A8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941B5-54BB-4835-A554-65A3C62F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F38F6-8A6F-48B2-BF44-8C3ABF4E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9BD-915A-4D7E-8AB0-BFEAAD92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E1BB6-9C58-4853-8DC9-59A0BDBA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1C58F-4314-4A08-B406-B9C29197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C3B27-F15D-4349-A712-8C08AD23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1C15F-1AE5-47B2-9FA5-19440C61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D69ED-109C-49B5-AA22-8BFA6DB1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61504-64CE-4747-8C8A-CEF1B7C5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5DB84-9307-4488-82C4-B969BF46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881BA-A8B3-4671-8153-F17C1F9C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D0786-089D-4603-8950-8EF93ACD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8ED6F-4DDF-4550-88B0-BCE0351D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7BC-1ECD-4C00-AB72-B1F12656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8D3F2-4457-4D18-9AA7-97ACFEAB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BD364-695D-4EDF-8C5F-BF094482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AA097-6918-4440-BF1F-274F18D3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62863-6ED9-4ED1-8946-B7203EBD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20CAE-1CEC-4767-80A5-03ED735A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97FA4-FF7B-4502-8A7C-E0F96A76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BDBEE-24B5-4780-95EE-254D202F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5335F-71E5-4197-9E47-A493AFDD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AD262-E580-4E0E-B2AF-E208738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FA5C1-BE55-4ABA-9AC6-FD4E045A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4755-1CA1-4159-A1C0-BC3B7035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44B65-D728-45FF-BC98-240CE9E2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19D6C-9AF1-44A0-A51B-0F9BDCD1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7E835-E56F-4F6E-8022-8F5985C5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912EB-3FD9-41CC-9B0F-660C0F3A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DFE19-65B9-4C68-B2F9-EF93C4C1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E8C42-A2FA-4330-907B-1674ED35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087DD-F76F-47EC-8BF8-9611F226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A31D3-38D2-4778-A747-17EEDBE3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FB2D9-AD45-4BE2-870D-E7D092A1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EAF73-239B-47DB-AAD5-5BDD9D76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CA80-DF3F-4E73-9A11-2C4716A3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35055-CA76-4B50-9847-9B108CE1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BDEF0-E774-4D9C-8F01-DF457F7E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B4133-99B0-491C-9327-8205C7B3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E6F5A-3EF8-4998-B142-6F770936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543AF-355E-496D-AA16-32FFC0FF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7D48-3509-4339-BC76-153DAE05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EDD6-70C2-4671-905D-A17F354D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3C59-8AB1-41B5-8CF9-B44C31DF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ADCD-62A8-4668-9BD3-958C2067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9AD1-5B8F-4190-B814-1615B15C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F67-D1D5-4B17-96F1-28E4E457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59A7-550D-47BF-8735-7EDC3084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EC06-F79F-4F93-AFC1-942D9F9A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38F0-B214-43B2-B091-A172C5E7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6BAE-26DF-4E1C-8272-DE416DDD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C496-1A16-4E83-B9DC-BBEE2659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7DF5-E77E-472D-89A4-6E763AB6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9FB3-8055-4024-91AF-0BDDBD70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36E9-7A2A-4462-8C22-B5F4B642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2EDF-CDE7-4F05-9AA7-244B323E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F4E51-6253-4D68-A546-69B8DD45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5A5-CCA8-4CAA-9C9C-B98FB59E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5552-85ED-45CA-B749-C6408E46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C82F-8C4A-456B-9EB0-B6E67F47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33C6-A087-451C-808D-9A5BD359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CDAD-1AA4-4E7F-B91E-85630E12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8526-BC23-4AB4-8A83-C4CFFC50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B712-F412-4260-91F8-0AD787C6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E29E0-BEF7-40E3-B178-CE37F9F6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BA566-500C-43D4-8607-BE595F6B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E500D-A6B4-4815-9129-575F74DE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C9AAD-1CE3-4F50-AF26-56251668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346-3C02-47D5-B3FC-5CAF3D3F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C8221-6CEA-41BA-A60B-2D703D99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F7B5-F478-4F08-B96F-5AFF01F5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602B-FB23-4CE4-B6E4-5D966606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4EC8-5D71-4CB0-9DF2-5508024D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A5A2C-467F-4C2D-BC34-71D5F71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0D0A-0E93-4FB1-A1E7-468860B3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7643A-196E-4896-8811-67F0B8B8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6698-0933-4BAE-B3AA-11839B66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4636-C66D-488E-B9A6-72A8F18F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852F2-3114-46CF-8B7F-E4A3D580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67D-31D5-4390-90F6-25DD9525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2B8DA-199A-4594-8756-CDF7A5AE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FFCE-0A6E-418F-8DFF-5F84C7A5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67359-2ED8-4631-AB9E-3A8967C6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AEBED-1AB4-4E04-AFF6-F20180D8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AE1F8-2AD0-4CBF-90B1-9A70115B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5AF0B-00CB-426A-82D1-18AC6C18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5F67D-EBC3-42BE-B4D5-D7E2859C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B2CDF-A862-417F-8863-0908CE40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246BA-ECA2-4670-8B02-EBC60F6E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B4DC9-F2C2-4EEB-8686-D3E74907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7A4-C310-481F-B27A-AA60EEEE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3257-4972-4BC8-A497-E0CC9089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51562-B182-4F6A-BA5F-EEC93D21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6D6DB-0B21-49BA-BF84-3F3B1BEB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B969-7269-428A-803B-99F26F57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22709-100C-4B78-BAD0-17F7F84D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42C59-4812-4969-9E92-17777764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CE94D-D1AD-4A3C-AB2C-7ECAFB63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0E553-1C25-4F00-A64C-76520734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052B5-628E-460E-AA5C-3747F556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56A92-E2CD-49BA-B635-E897D63B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D57-578C-4D4F-AFD4-A149B6B1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E0671-8412-4155-AE6F-C54CDABE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8CA17-2E07-44CA-A704-EE55E060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561D5-A22A-41C0-92EF-48B68357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751A5-1F57-49CE-8045-C9B6BF29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2C89D-AD66-46B6-AD34-C40AD62B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624E4-B49B-4AE6-A082-868056B4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FA634-7307-4477-B3D2-091159F8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B7924-19E2-40C3-98C3-F171DCA2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D8D58-5205-4FE6-9212-506B0730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9B88A-53A6-4986-BE4A-81E8FDC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ECE-C0A1-4689-8355-7555E7C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98177-C142-4A0D-8CDE-4EEC40F3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2714B-50CD-4C21-9901-69D03261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0C5F6-C7CB-4607-B833-BFE07AD3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C7D61-BD53-404B-BBA6-611135C1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8B356-40CE-48DA-AA1B-B7EDC783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AD5C1-F8C4-4CFE-8FEE-1A318492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31D48-B98B-496C-9D14-5ECD4637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53889-5F19-4198-BC72-C5CE65F5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76E31-1C42-4D04-886D-B1689008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287B2-4A28-406A-85FA-153517E1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A90-A19E-4AE1-B3F1-7AE1C13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E600C-90B7-4D5A-A807-B4AD7BD0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85D47-AEEA-4E39-96D7-D3A713F8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574CC-8634-4C9E-AB7E-3A8AA57C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3A2A6-9467-4769-9F40-98205795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D34BB-916B-44A4-A9E9-11721903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BADD0-6C1A-4EAA-8A19-27C184E3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202F6-4A2E-45F5-BA4E-76ACEF08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C8179-8F60-490D-BB29-138B0602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F483D-30A8-419B-8B2C-4FF018A7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D4CAE-741A-4A05-934A-2DB0A879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D7C9-79C9-46F6-86E9-5A7001C71D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BD9D-6821-4DC1-9BAA-95AF2B3356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32BE-9E3A-413D-B3B3-D46B4C893E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A84C-A707-4942-B484-6E4B8A54D6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EF37-FC41-49F7-8E68-D18E68A615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72C6-0F3F-4E53-BC28-FABA5B6F15D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BA2F-9622-4F8A-86F7-A97E9CE701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BD1A-134F-4CF0-ADB3-2F24E90419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D6FD-B504-4F2B-934A-B77D770292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3C37-BEB6-45EA-B7EE-404918BF6B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81F2-BCD5-4BB9-95D2-36E092F2F8F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71CE-6D8E-44C5-96ED-0F7482CD34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16 Chcem navždy tvojím by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lávu tvoju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ť v tebe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ieť tvoju tvá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j spásonosný svi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zácn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o mnou bu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rán sa tvojich skr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ich spoči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teba ni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 nechcem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môj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ba m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26:50Z</dcterms:modified>
  <cp:revision>20</cp:revision>
  <dc:subject/>
  <dc:title>Je veľký náš Pán, on slávy je Kráľ Nech do všetkých strán  spev vrúcnych znie chvál.</dc:title>
</cp:coreProperties>
</file>